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0D1-41DF-4D04-AD1E-5E91DCA4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3E0-20CC-408D-8C42-B2A97264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4D0-357D-4E40-A674-311B17DB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6DB-21C5-4597-9BE5-AD061FD1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A14-E1A8-471A-AA56-D64C7654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2F9-E52F-494E-B57B-8CCE0F1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235-CF15-4DF3-A9E7-8C201A16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97C-8271-4F0B-B151-261EC37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CF4-BDF6-4C2C-9A9D-B8384C09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129-1F9A-4414-9002-BE35C99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4B8-4B9B-4784-8B7B-F66D6FE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6FE-B349-45A5-988A-672822F1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3FAE-9E54-4B6D-8505-DF6FCEBC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5:21:54Z</dcterms:created>
  <dc:creator>11castorb</dc:creator>
  <dc:description/>
  <dc:language>en-US</dc:language>
  <cp:lastModifiedBy>11castorb</cp:lastModifiedBy>
  <dcterms:modified xsi:type="dcterms:W3CDTF">2008-05-21T15:21:59Z</dcterms:modified>
  <cp:revision>1</cp:revision>
  <dc:subject/>
  <dc:title>Slide 1</dc:title>
</cp:coreProperties>
</file>